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E14-E273-47F0-AC31-0D937C56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C35-96A1-44CD-99EF-15A75876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B1D-0F07-413C-9CB0-B9CA0E88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C62-CCF6-453E-A897-BBF84160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382-6AAA-4826-BD68-377A335C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86F-8512-450A-9C7F-05878B1E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A4D-AA1B-40B8-A56D-EE033397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2A6-B4CE-4D17-9AB2-93CEF0D0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149-5FAD-48C3-8862-F81A07CF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AA2-BCE5-4A5E-8ED3-40C68654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BDD-0774-4643-B5DD-3CDB3277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7FB-50A9-4149-86B4-086EED2D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3A66-D15E-49B3-B601-CC255C810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ifty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50states.com/flower/newjersey.htm" TargetMode="External"/><Relationship Id="rId3" Type="http://schemas.openxmlformats.org/officeDocument/2006/relationships/hyperlink" Target="http://www.50states.com/flower/newjersey.htm" TargetMode="External"/><Relationship Id="rId4" Type="http://schemas.openxmlformats.org/officeDocument/2006/relationships/hyperlink" Target="http://www.50states.com/newjerse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newjersey.shtml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enchantedlearning.com/usa/states/newjersey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125c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518148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a Ter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1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838080"/>
            <a:ext cx="6477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99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Edwardian Script ITC"/>
              </a:rPr>
              <a:t>New Jerse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477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5254560"/>
            <a:ext cx="2438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ong: Fifty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 York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tober 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,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ifty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Capitol: Tren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pulation: 8,414,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ed Union: December 1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787 It is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Motto: Liberty and Prosp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Nickname: Garden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12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25cd"/>
                </a:solidFill>
                <a:latin typeface="Arial"/>
              </a:rPr>
              <a:t>Flower: Vio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ird: Eastern Goldfi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ff3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f31d"/>
                </a:solidFill>
                <a:latin typeface="Arial"/>
              </a:rPr>
              <a:t>Song: I’m From New Jers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Meaning Behind Name: It was named after the Channel Island, Jersey, by Sir George Carteret, who came from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teresting Facts: Their governor is Christopher S. Christie. A historical site to see there is The Edison National Historic Site in the West O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363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9880" y="0"/>
            <a:ext cx="4648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 Jersey State F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1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50states.com/flower/newjersey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65760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tate flower. In 1971 the urging of New Jersey's garden clubs, legislation more specifically designating the Common Meadow Violet as the state flower was enacted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5029200"/>
            <a:ext cx="23623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 Jersey State 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October 18th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50states.com/flower/newjersey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New Jersey State Fla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44197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91320" y="35053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tate flag. The New Jersey state flag was formally adopted in 189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00ffff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405144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29200" y="2362320"/>
            <a:ext cx="3200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Jersey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e Map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tober 2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newjerse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94216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map of New Jersey, the State Capitol, cities, water, and State bound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All images Copyright © 1997 - 2000 WriteLine. All Rights Reserved. William Trent house"/>
          <p:cNvPicPr/>
          <p:nvPr/>
        </p:nvPicPr>
        <p:blipFill>
          <a:blip r:embed="rId2"/>
          <a:stretch/>
        </p:blipFill>
        <p:spPr>
          <a:xfrm>
            <a:off x="304920" y="1143000"/>
            <a:ext cx="8610480" cy="4800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4572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This is the William Trent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17220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019920"/>
            <a:ext cx="86868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Postcards From America, </a:t>
            </a:r>
            <a:r>
              <a:rPr b="0" lang="en-US" sz="2400" spc="-1" strike="noStrike" u="sng">
                <a:solidFill>
                  <a:srgbClr val="9933ff"/>
                </a:solidFill>
                <a:uFillTx/>
                <a:latin typeface="Arial"/>
              </a:rPr>
              <a:t>New Jersey,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 October 25</a:t>
            </a:r>
            <a:r>
              <a:rPr b="0" lang="en-US" sz="2400" spc="-1" strike="noStrike" baseline="30000">
                <a:solidFill>
                  <a:srgbClr val="9933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, 201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ttp://www.postcardsfrom.com/t1/991208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All images Copyright © 1997 - 2000 WriteLine. All Rights Reserved. Navesink Lighthouse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72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This is the Twin Lights of Navesink Historic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791320"/>
            <a:ext cx="7239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Postcards From America,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New Jersey,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October 25th, 201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ttp://www.postcardsfrom.com/t1/991208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All images Copyright © 1997 - 2000 WriteLine. All Rights Reserved. Washingtion Crossing"/>
          <p:cNvPicPr/>
          <p:nvPr/>
        </p:nvPicPr>
        <p:blipFill>
          <a:blip r:embed="rId2"/>
          <a:stretch/>
        </p:blipFill>
        <p:spPr>
          <a:xfrm>
            <a:off x="1066680" y="990720"/>
            <a:ext cx="7010640" cy="4673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19320" y="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Washington Crossing State Park in Titusville N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5638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 Jerse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tober 25th, 2011, http://www.postcardsfrom.com/t1/991208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All images Copyright © 1997 - 2000 WriteLine. All Rights Reserved. Trenton NJ Capitol"/>
          <p:cNvPicPr/>
          <p:nvPr/>
        </p:nvPicPr>
        <p:blipFill>
          <a:blip r:embed="rId2"/>
          <a:stretch/>
        </p:blipFill>
        <p:spPr>
          <a:xfrm>
            <a:off x="990720" y="81288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3880" y="571500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ostcards From America, 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</a:rPr>
              <a:t>New Jersey,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October 25th, 201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ttp://www.postcardsfrom.com/t1/991208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-15228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is is the State Capitol in Trenton N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7Z</dcterms:created>
  <dc:creator>install</dc:creator>
  <dc:description/>
  <dc:language>en-US</dc:language>
  <cp:lastModifiedBy>install</cp:lastModifiedBy>
  <dcterms:modified xsi:type="dcterms:W3CDTF">2011-10-27T13:39:38Z</dcterms:modified>
  <cp:revision>7</cp:revision>
  <dc:subject/>
  <dc:title>Slide 1</dc:title>
</cp:coreProperties>
</file>